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A2286-6274-4F0F-A380-36524F7B2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50820-F2C5-4207-8262-E85CF4B9C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BF7B2-9A61-4507-94E0-7E9D0F0B9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D5DB1-EFBC-4460-917A-BA9CE1035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694FB-71DA-4FF8-A7C4-A99FE7623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BD625-AC3E-4A4C-BE66-D6D500B70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7BEE0-4440-4143-9996-660B85E51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423B6-D230-4FD8-9B74-4F46DB48F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36230-3B92-42DB-8B82-E0C47073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D5A83-B266-4A8B-8D19-BE28FA101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8CFC8-18E1-4ADA-84A7-051485D7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D077B-B82A-44CC-8D80-EF55E1A335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DF103972-9839-4569-8787-CB040902446A}" type="datetime">
              <a:rPr b="0" lang="en-US" sz="5500" spc="-1" strike="noStrike">
                <a:solidFill>
                  <a:srgbClr val="898989"/>
                </a:solidFill>
                <a:latin typeface="Calibri"/>
              </a:rPr>
              <a:t>07/28/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D5F5B54E-0184-4AF0-A82E-10B3873436E0}"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